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747-E86C-41C3-9FFD-D9C960D5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CD-8D1A-40C7-B502-FC953E1C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A21-EDE3-4B66-93CF-8C1767C7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F9F-6426-4FF4-8A2F-0E4F75C4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13CC-D31F-4CA4-B02E-949A7EDE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887C-9A45-4DB1-AE38-2648CFC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AC74-46C6-44AA-BABF-89F3C1AA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DEF-C314-4D4C-94EC-767D3DB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72C-9725-4E94-824C-E74088D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4DB-0F95-4A97-B543-CE57CF8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01C5-BF3B-4CF1-AF1D-C794E49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2B9-C60B-48CF-9F5D-12DFF46F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AAC-2B63-47B9-8B1A-E59765A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C216-C3F5-4557-ACEF-3E1937A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0D70-5B8D-4CE9-8AE4-486445BF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F085-AB40-43BC-869F-17F1FDCD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656D-9E7F-41BE-BE10-AA511984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633-F397-4492-BAF6-B61885E6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52F-B319-4447-9623-AD4EA8C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AE7-BB94-443F-866C-56514D7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1CC-B8F8-41DB-9C12-3DDE3F6E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C09-72F3-455A-BCE6-0A7C67E2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0D8-7270-4173-A369-9AE8804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C9C-7334-494F-A751-AB8B418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5EF-7270-4306-A13A-2E6498C1E87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B437-39A5-490F-88DF-51D199F253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95280" y="243828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* BIENVENIDOS *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371600" y="38088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 ECONÓMICO Y FINACIER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62240" y="1593720"/>
          <a:ext cx="7043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593720"/>
                    <a:ext cx="7043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062000" y="960480"/>
          <a:ext cx="785196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960480"/>
                    <a:ext cx="78519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1720" y="1062000"/>
          <a:ext cx="780408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062000"/>
                    <a:ext cx="78040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386000" y="1293840"/>
          <a:ext cx="6811920" cy="49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293840"/>
                    <a:ext cx="68119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43828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419112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0574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23760" y="1062000"/>
          <a:ext cx="8498160" cy="49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62000"/>
                    <a:ext cx="84981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93720" y="5564160"/>
          <a:ext cx="7180560" cy="90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3720" y="5564160"/>
                    <a:ext cx="71805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5280" y="457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VALUACIÓN FINANCIERA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62240" y="2286000"/>
          <a:ext cx="6858000" cy="30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2286000"/>
                    <a:ext cx="685800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371600" y="952560"/>
          <a:ext cx="671976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52560"/>
                    <a:ext cx="67197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85880" y="1154160"/>
          <a:ext cx="7527960" cy="46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154160"/>
                    <a:ext cx="7527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95280" y="1600200"/>
            <a:ext cx="6705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"GRACIAS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OR SU 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ASISTENCIA"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ollos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362320" cy="1904760"/>
          </a:xfrm>
          <a:prstGeom prst="rect">
            <a:avLst/>
          </a:prstGeom>
          <a:ln w="38160">
            <a:solidFill>
              <a:srgbClr val="1e327c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3962520" y="2514600"/>
          <a:ext cx="1981080" cy="22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514600"/>
                    <a:ext cx="1981080" cy="2209680"/>
                  </a:xfrm>
                  <a:prstGeom prst="rect">
                    <a:avLst/>
                  </a:prstGeom>
                  <a:ln w="38160">
                    <a:solidFill>
                      <a:srgbClr val="1e327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 txBox="1"/>
          <p:nvPr/>
        </p:nvSpPr>
        <p:spPr>
          <a:xfrm>
            <a:off x="1371600" y="974880"/>
            <a:ext cx="7086600" cy="93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ffcc"/>
                </a:solidFill>
                <a:latin typeface="Arial Black"/>
              </a:rPr>
              <a:t>COOPERATIVA PURO POLLO</a:t>
            </a:r>
            <a:endParaRPr b="0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99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ffcc"/>
                </a:solidFill>
                <a:latin typeface="Arial Black"/>
              </a:rPr>
              <a:t>"D.J.M.K."</a:t>
            </a:r>
            <a:endParaRPr b="0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99ffcc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8006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cc"/>
                </a:solidFill>
                <a:uFillTx/>
                <a:latin typeface="Times New Roman"/>
              </a:rPr>
              <a:t>Profesor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Times New Roman"/>
              </a:rPr>
              <a:t>Idalia Med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876920"/>
            <a:ext cx="2743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600" spc="-1" strike="noStrike" u="sng">
                <a:solidFill>
                  <a:srgbClr val="99ffcc"/>
                </a:solidFill>
                <a:uFillTx/>
                <a:latin typeface="Times New Roman"/>
              </a:rPr>
              <a:t>Bachiller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Aray, Delf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González, Juan Car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Rengel, Kar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Rojas, Milit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ollos" descr=""/>
          <p:cNvPicPr/>
          <p:nvPr/>
        </p:nvPicPr>
        <p:blipFill>
          <a:blip r:embed="rId4"/>
          <a:stretch/>
        </p:blipFill>
        <p:spPr>
          <a:xfrm>
            <a:off x="1143000" y="2127240"/>
            <a:ext cx="2362320" cy="1835280"/>
          </a:xfrm>
          <a:prstGeom prst="rect">
            <a:avLst/>
          </a:prstGeom>
          <a:ln w="38160">
            <a:solidFill>
              <a:srgbClr val="1e32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7621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LANTEAMIENT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119320"/>
            <a:ext cx="6933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mportación de carne de aves provenientes de países veci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territorio venezolano existen tanto la materia prima como el recurso humano y el área física idónea para poner en marcha o ejecutar dicho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2057400"/>
            <a:ext cx="69339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provechar las condiciones agroecológicas del Municipio Bolívar (Caripito) para la cría de pol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tisfacción de  la demanda del mercado interno oriental con miras a extenderlo a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enerar nuevos empleos a personas de la comun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7621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LANTEAMIENT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60948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OBJETIVO GENERAL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5909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Proporcionar   aves   (pollos)   de  buena  calidad  y  a  precios  solidarios  a  la población en gener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47920" y="3808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OBJETIVOS ESPECÍFICOS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0574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tribuir con la calidad de vida de la comunidad Monagu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enerar empleos directos e indirec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tisfacer la demanda existente en el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590920" y="2286000"/>
          <a:ext cx="4190760" cy="31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86000"/>
                    <a:ext cx="41907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V="1">
            <a:off x="4572000" y="1676160"/>
            <a:ext cx="0" cy="5331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68580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914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057760" y="3646440"/>
            <a:ext cx="532800" cy="237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2000" y="5410080"/>
            <a:ext cx="1440" cy="45720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722760"/>
            <a:ext cx="533520" cy="1908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47800">
            <a:off x="6857640" y="297144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6019920"/>
            <a:ext cx="2590560" cy="761760"/>
          </a:xfrm>
          <a:custGeom>
            <a:avLst/>
            <a:gdLst>
              <a:gd name="textAreaLeft" fmla="*/ 591120 w 2590560"/>
              <a:gd name="textAreaRight" fmla="*/ 1999440 w 25905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591800">
            <a:off x="304560" y="297144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100000">
            <a:off x="7162200" y="3290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CRIAD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821600">
            <a:off x="533880" y="3276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6186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COOPER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2286000"/>
            <a:ext cx="6705720" cy="2590920"/>
          </a:xfrm>
          <a:custGeom>
            <a:avLst/>
            <a:gdLst>
              <a:gd name="textAreaLeft" fmla="*/ 1530720 w 6705720"/>
              <a:gd name="textAreaRight" fmla="*/ 5175000 w 6705720"/>
              <a:gd name="textAreaTop" fmla="*/ 591480 h 2590920"/>
              <a:gd name="textAreaBottom" fmla="*/ 19994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14600" y="28954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DE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MERCAD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 rot="1754400">
            <a:off x="5790960" y="1371600"/>
            <a:ext cx="152280" cy="914400"/>
          </a:xfrm>
          <a:prstGeom prst="upArrow">
            <a:avLst>
              <a:gd name="adj1" fmla="val 50000"/>
              <a:gd name="adj2" fmla="val 150118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774800">
            <a:off x="2971440" y="1447920"/>
            <a:ext cx="152280" cy="914400"/>
          </a:xfrm>
          <a:prstGeom prst="upArrow">
            <a:avLst>
              <a:gd name="adj1" fmla="val 50000"/>
              <a:gd name="adj2" fmla="val 150118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7203000">
            <a:off x="6400080" y="4419000"/>
            <a:ext cx="152640" cy="762120"/>
          </a:xfrm>
          <a:prstGeom prst="upArrow">
            <a:avLst>
              <a:gd name="adj1" fmla="val 50000"/>
              <a:gd name="adj2" fmla="val 124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609480"/>
            <a:ext cx="23623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AREA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762120"/>
            <a:ext cx="236196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648320"/>
            <a:ext cx="198144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486400"/>
            <a:ext cx="23623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ANALÍSIS DE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0701000">
            <a:off x="4952520" y="487656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4083200">
            <a:off x="3047760" y="44956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5264280"/>
            <a:ext cx="37339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CANAL DE 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33720" y="2286000"/>
            <a:ext cx="4876560" cy="182880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95480" y="26668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TÉCNIC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599840" y="2437920"/>
            <a:ext cx="7621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1676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858000" y="2286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14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380988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666520" y="3886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838080"/>
            <a:ext cx="175284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64600">
            <a:off x="6021360" y="1666800"/>
            <a:ext cx="29718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191120"/>
            <a:ext cx="2514600" cy="1015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645160"/>
            <a:ext cx="365760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INSTALACIONES, EQUIPOS Y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495680"/>
            <a:ext cx="28195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BRA 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9980600">
            <a:off x="-1440" y="1829160"/>
            <a:ext cx="28195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3:51:19Z</dcterms:created>
  <dc:creator>LIGIA RAMOS</dc:creator>
  <dc:description/>
  <dc:language>en-US</dc:language>
  <cp:lastModifiedBy>LIGIA RAMOS</cp:lastModifiedBy>
  <dcterms:modified xsi:type="dcterms:W3CDTF">2006-07-20T03:23:44Z</dcterms:modified>
  <cp:revision>20</cp:revision>
  <dc:subject/>
  <dc:title>Sin título de diapositiva</dc:title>
</cp:coreProperties>
</file>